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584C-E014-4EE2-B449-11E63265F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udy of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y of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omplex cells are called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have a nucleus and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lants, animals, protists, &amp; fungi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lex cells are called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have a nucleus and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, animals, protists, &amp; fungi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are Grouped by their Number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On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ult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Many, Specializ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are Grouped by their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On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Many, 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produce to Pass on their Genetic Tra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produce to Pass on their Genetic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2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gg fertilized by sperm to make a ZYG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DIFFERENT from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2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fertilized by sperm to make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DIFFERENT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a single organism or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 div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IDENTICAL to pa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a single organism o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IDENTICAL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a 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a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contain 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contai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s 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th &amp;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by producing MORE CELLS &amp; by cell ENLAR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develop as they mature into an adult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grow by producing MORE CELLS &amp; by cell ENLAR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develop as they mature into an adul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quire Food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Require Food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Bi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logy is  the study of all living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are called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i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is  the study of all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called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otrophs can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hotoautotrophs use sunlight to make food (photosynthe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can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 use sunlight to make food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terotrophs can NOT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must consume othe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rbivores eat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rnivores eat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mnivores eat plants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 can NOT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ust consume othe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s eat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ivores eat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vores eat plants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m of all the chemical reactions in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requir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nlight is the ultimate energy for life on Ear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ll the chemical reactions in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quir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is the ultimate energy for life on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ular Respi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leasing the chemical energy stored in fo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O2 + C6H12O6               6CO2 + 6H2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releasing the chemical energy stored in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2 + C6H12O6               6CO2 +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Evol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ssil records show changes in group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Ev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records show changes in group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fe is Organized on Several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Organized on Several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– life starts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iss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– life start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co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Living Things Share 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sic Unit i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Based On Universal Genetic Code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hings Share 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Unit i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ased On Universal Genetic Code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btain &amp; Use Materials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pond To Thei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intain A Stable Internal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 A GROUP, Living Things Evolve, That Is They Change Over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&amp; Use Material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Living Things Evolve, That Is They Chang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aracteristic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are made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are made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acts About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the smallest living unit of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contain living material called cytopl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Abou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smallest living unit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contain living material called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complex &amp; highly organ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parts called organelles that do different jo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.g. Chloroplasts in plants make sug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complex &amp; highly organ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parts called organelles that do diffe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hloroplasts in plants mak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simplest cells are called Pro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NOT have a nucleus or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cteria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est cells are called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NOT have a nucleus or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4AE-6A65-4403-8FE3-EDAF51C0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53B-954D-4AB9-99A3-2C5BCAE4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54A-F6D9-4648-A83D-072F3836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134-7593-4D93-8B31-7C2ED22A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33F1-5F13-4BCE-BBEC-110E89FB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1893-FCFD-4BC1-AB59-10BB8636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A45F-0B84-41C6-815E-0797C47C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1DE1-3E2F-44B1-A384-3CE0ADC7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D9D4-1A0E-47D8-B79E-7F602E2B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A42A-15D1-4099-AE53-6189FA69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E5E5-7DA7-403A-931C-776FB3F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285-1582-426A-8117-7517E614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F4D2-D251-4A0A-8AFD-5225AD92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C9FA-0622-4CE0-A87A-A4BD24C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4C70-05C6-43E2-9D76-D2B8798C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0B3C-38B2-4FE7-A618-32D0ACE8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4F22-EE6D-4126-80B3-0DAEC868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6BD-23DF-4CDD-A020-BF87512C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601-B0EB-4D17-884B-A6CF7732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AA6-0201-4640-8DB0-81446E69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6E7-B037-4D0F-8EB6-F2554875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42C-FA66-466E-A2E8-0D983D9A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2D9-BADD-4890-81EE-A8EA6F2E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D82-92F3-422D-B9B2-B36DE2AD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1B97-C186-4C07-BC95-7C4EE87BAF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FE27-5359-407E-A482-51DF3DBBE7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thnopharmacology.com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tudy of Biolog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spider"/>
          <p:cNvPicPr/>
          <p:nvPr/>
        </p:nvPicPr>
        <p:blipFill>
          <a:blip r:embed="rId1"/>
          <a:stretch/>
        </p:blipFill>
        <p:spPr>
          <a:xfrm>
            <a:off x="2362320" y="2590920"/>
            <a:ext cx="44449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re complex cells are call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 have a nucleus and membrane-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lants, animals, protists, &amp; fung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cell_structure"/>
          <p:cNvPicPr/>
          <p:nvPr/>
        </p:nvPicPr>
        <p:blipFill>
          <a:blip r:embed="rId4"/>
          <a:stretch/>
        </p:blipFill>
        <p:spPr>
          <a:xfrm>
            <a:off x="5257800" y="25146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ganisms are Grouped by their Number of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Un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On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ult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Many, Specializ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rganisms Reproduce to Pass on their Genetic Tr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rownnoddynest01"/>
          <p:cNvPicPr/>
          <p:nvPr/>
        </p:nvPicPr>
        <p:blipFill>
          <a:blip r:embed="rId1"/>
          <a:stretch/>
        </p:blipFill>
        <p:spPr>
          <a:xfrm>
            <a:off x="2057400" y="3048120"/>
            <a:ext cx="5121360" cy="341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exual Re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volves 2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gg fertilized by sperm to make a Z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fspring DIFFERENT from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weasleys2"/>
          <p:cNvPicPr/>
          <p:nvPr/>
        </p:nvPicPr>
        <p:blipFill>
          <a:blip r:embed="rId5"/>
          <a:stretch/>
        </p:blipFill>
        <p:spPr>
          <a:xfrm>
            <a:off x="4648320" y="1996920"/>
            <a:ext cx="396216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267080" y="2438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sexual Re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volves a single organism o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 IDENTICAL to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Slide01"/>
          <p:cNvPicPr/>
          <p:nvPr/>
        </p:nvPicPr>
        <p:blipFill>
          <a:blip r:embed="rId5"/>
          <a:stretch/>
        </p:blipFill>
        <p:spPr>
          <a:xfrm>
            <a:off x="4724280" y="1523880"/>
            <a:ext cx="336564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ells Have a 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dna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oxyribose nucleic aci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) carries the genetic code for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ll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ontain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N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des for the protei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make up cells &amp; do all the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rganisms Grow &amp; Develo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bellfrog_illus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02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owth &amp;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w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by producing MORE CELLS &amp; by cell ENLAR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s they mature into an adult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butterfly-hatch"/>
          <p:cNvPicPr/>
          <p:nvPr/>
        </p:nvPicPr>
        <p:blipFill>
          <a:blip r:embed="rId3"/>
          <a:stretch/>
        </p:blipFill>
        <p:spPr>
          <a:xfrm>
            <a:off x="6008760" y="23623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ells Require Food &amp;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african-lion-picture"/>
          <p:cNvPicPr/>
          <p:nvPr/>
        </p:nvPicPr>
        <p:blipFill>
          <a:blip r:embed="rId1"/>
          <a:stretch/>
        </p:blipFill>
        <p:spPr>
          <a:xfrm>
            <a:off x="2057400" y="1905120"/>
            <a:ext cx="5629320" cy="41018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Biolog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Biology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  the study of all living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ving things are called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include bacteria, protists, fungi, plants,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utotroph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make their ow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ot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unlight to make food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hem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emicals such as iron &amp; sulfur as thei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S3bSxJudyPJplants"/>
          <p:cNvPicPr/>
          <p:nvPr/>
        </p:nvPicPr>
        <p:blipFill>
          <a:blip r:embed="rId4"/>
          <a:stretch/>
        </p:blipFill>
        <p:spPr>
          <a:xfrm>
            <a:off x="571500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terotroph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an NOT make their own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must consume other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rb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ar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m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m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m of all the chemical reactions in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quire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unligh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s the ultimate energy for life on Ea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5638680" cy="1685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141155"/>
          <p:cNvPicPr/>
          <p:nvPr/>
        </p:nvPicPr>
        <p:blipFill>
          <a:blip r:embed="rId5"/>
          <a:stretch/>
        </p:blipFill>
        <p:spPr>
          <a:xfrm>
            <a:off x="7391520" y="304920"/>
            <a:ext cx="122544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ellular Respiratio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releasing the chemical energy stored in f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6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62520" y="53341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NA00455_"/>
          <p:cNvPicPr/>
          <p:nvPr/>
        </p:nvPicPr>
        <p:blipFill>
          <a:blip r:embed="rId2"/>
          <a:stretch/>
        </p:blipFill>
        <p:spPr>
          <a:xfrm>
            <a:off x="3886200" y="4343400"/>
            <a:ext cx="1042920" cy="612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rganisms Respond to Stimu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imul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Temperature, Water, Food Supplies, etc.)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Order To Survive &amp; 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2"/>
          <p:cNvPicPr/>
          <p:nvPr/>
        </p:nvPicPr>
        <p:blipFill>
          <a:blip r:embed="rId2"/>
          <a:stretch/>
        </p:blipFill>
        <p:spPr>
          <a:xfrm>
            <a:off x="2438280" y="3962520"/>
            <a:ext cx="4229280" cy="26384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eeping The Internal Environmen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(Homeostasis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ell or Organism Within The Ranges Required Fo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ble internal conditions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H, temperature, water balance, et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9368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fever"/>
          <p:cNvPicPr/>
          <p:nvPr/>
        </p:nvPicPr>
        <p:blipFill>
          <a:blip r:embed="rId3"/>
          <a:stretch/>
        </p:blipFill>
        <p:spPr>
          <a:xfrm>
            <a:off x="3124080" y="4495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ving Things Evol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ups Of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Not Individuals) Change Over Time In Order To Survive Within Changing Environ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ossil record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show changes in groups of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science_dino01"/>
          <p:cNvPicPr/>
          <p:nvPr/>
        </p:nvPicPr>
        <p:blipFill>
          <a:blip r:embed="rId3"/>
          <a:stretch/>
        </p:blipFill>
        <p:spPr>
          <a:xfrm>
            <a:off x="5715000" y="2971800"/>
            <a:ext cx="3200400" cy="223344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ife is Organized on Several 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800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life start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co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earth_1_apollo17_big"/>
          <p:cNvPicPr/>
          <p:nvPr/>
        </p:nvPicPr>
        <p:blipFill>
          <a:blip r:embed="rId5"/>
          <a:stretch/>
        </p:blipFill>
        <p:spPr>
          <a:xfrm>
            <a:off x="4114800" y="1444680"/>
            <a:ext cx="4743360" cy="4699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ll Living Things Share Common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asic Unit is 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Based On Universal Genetic Cod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(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row &amp; Devel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1"/>
          <p:cNvPicPr/>
          <p:nvPr/>
        </p:nvPicPr>
        <p:blipFill>
          <a:blip r:embed="rId1"/>
          <a:srcRect l="18897" t="0" r="19686" b="4089"/>
          <a:stretch/>
        </p:blipFill>
        <p:spPr>
          <a:xfrm>
            <a:off x="1752480" y="228600"/>
            <a:ext cx="559764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mmon Characterist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tain &amp; Use Materials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Their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inta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able Internal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Comic Sans MS"/>
              </a:rPr>
              <a:t>AS A GROU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Living Things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volv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That Is They Chang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sp-1"/>
          <p:cNvPicPr/>
          <p:nvPr/>
        </p:nvPicPr>
        <p:blipFill>
          <a:blip r:embed="rId1"/>
          <a:stretch/>
        </p:blipFill>
        <p:spPr>
          <a:xfrm>
            <a:off x="5105520" y="1371600"/>
            <a:ext cx="3457440" cy="507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elicious and nutritious? No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3514680" cy="41432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l Organisms are made of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ell_membrane"/>
          <p:cNvPicPr/>
          <p:nvPr/>
        </p:nvPicPr>
        <p:blipFill>
          <a:blip r:embed="rId1"/>
          <a:stretch/>
        </p:blipFill>
        <p:spPr>
          <a:xfrm>
            <a:off x="2133720" y="2795760"/>
            <a:ext cx="5105160" cy="27954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s About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ells are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mallest living uni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contain living material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ytopla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are surrounded by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ell membran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controls what enters &amp; leaves th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are complex &amp; highly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have parts called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ell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at do different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.g. Chloroplasts in plants make sug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celltypes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implest cells are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NOT have a nucleus or membrane-bound organ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acteri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prokaryote"/>
          <p:cNvPicPr/>
          <p:nvPr/>
        </p:nvPicPr>
        <p:blipFill>
          <a:blip r:embed="rId4"/>
          <a:stretch/>
        </p:blipFill>
        <p:spPr>
          <a:xfrm>
            <a:off x="5334120" y="228600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3:59:15Z</dcterms:created>
  <dc:creator>Cheryl Massengale</dc:creator>
  <dc:description/>
  <dc:language>en-US</dc:language>
  <cp:lastModifiedBy>LEGION</cp:lastModifiedBy>
  <dcterms:modified xsi:type="dcterms:W3CDTF">2016-12-07T09:21:58Z</dcterms:modified>
  <cp:revision>26</cp:revision>
  <dc:subject/>
  <dc:title>1-3 Studying Life</dc:title>
</cp:coreProperties>
</file>